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8AE-31C6-4D5C-A0CE-031DA196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0C7-523C-4342-96A5-4BA9F79D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555-F5E4-40E1-8214-215AEDB1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438-54C6-4E88-B99A-8A4CC814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2FC-C271-4906-A8E5-B7C6CAC9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E56-6D47-42FA-B353-A4411545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CA1-B621-49FD-95E0-57BAA70F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616-64EB-4B8C-9E22-B70012AD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796-4D9E-4860-8365-FDDC1245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CC8-31DD-45D8-8553-C4C95555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5DA-FB99-4EB1-84C5-044B06B7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F5A-78FE-4B9E-9C72-417E890F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91CB-5F6C-4747-90A8-1401A707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5:08:21Z</dcterms:created>
  <dc:creator>Grupo Editorial</dc:creator>
  <dc:description/>
  <dc:language>en-US</dc:language>
  <cp:lastModifiedBy>Grupo Editorial</cp:lastModifiedBy>
  <dcterms:modified xsi:type="dcterms:W3CDTF">2001-09-27T15:11:29Z</dcterms:modified>
  <cp:revision>1</cp:revision>
  <dc:subject/>
  <dc:title>Sin título de diapositiva</dc:title>
</cp:coreProperties>
</file>